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7621588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ftr" idx="8"/>
          </p:nvPr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9"/>
          </p:nvPr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lstStyle>
            <a:lvl1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  <a:defRPr b="0" i="1" lang="pt-B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EFE6B2C7-BC5E-44DD-8F87-6EDBEEC949D4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1301760" y="3266640"/>
            <a:ext cx="7169040" cy="30560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Img"/>
          </p:nvPr>
        </p:nvSpPr>
        <p:spPr>
          <a:xfrm>
            <a:off x="3349440" y="515520"/>
            <a:ext cx="3074760" cy="25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9019080" y="6539040"/>
            <a:ext cx="86436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sp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C710374F-9BAE-4CCA-A008-5F5C9C956BBD}" type="slidenum">
              <a:rPr b="0" lang="pt-BR" sz="13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557388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fld id="{09F019B2-4D26-432D-BB8C-96B3B65BCBAF}" type="slidenum"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1440" y="6474960"/>
            <a:ext cx="4200480" cy="38268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b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144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573880" y="-1800"/>
            <a:ext cx="4200480" cy="306360"/>
          </a:xfrm>
          <a:prstGeom prst="rect">
            <a:avLst/>
          </a:prstGeom>
          <a:noFill/>
          <a:ln w="0">
            <a:noFill/>
          </a:ln>
        </p:spPr>
        <p:txBody>
          <a:bodyPr lIns="17640" rIns="17640" tIns="0" bIns="0" anchor="t">
            <a:noAutofit/>
          </a:bodyPr>
          <a:p>
            <a:pPr algn="r"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i="1" lang="pt-B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3343320" y="514440"/>
            <a:ext cx="3085920" cy="25718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30320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FB9-5716-46F2-A624-3BC371D0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C66-28EF-4D26-A3F3-8F95D8F3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DF0A-C361-4AC9-887A-521794B1A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0F6-57FD-4FC6-87A7-EBEF324D1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6BAA-9778-4705-88B6-BA27AC7F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5780-4998-4BC0-997E-29ECB80D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9960-239C-430B-81BC-3568EFF3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353-7FED-498C-8683-08510551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DF60-1149-4A40-89B4-0D511E9F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91CC-F630-4BAF-9FC5-6E3482A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6A34-2BB0-4F92-88D3-18F3E38D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CEC-E642-4451-99E1-4663D158F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5731-B68A-42FB-B7B3-DE52183D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CF32D-FFD2-463E-8C74-CB81263D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CD6A-573D-49CD-9984-C526B09D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383F4-A1B7-44CA-8562-8F17AD67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94760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4379760"/>
            <a:ext cx="250236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0891-ADA2-4945-8FAF-637298B2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A06-55D7-4741-B763-BD736899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E3E9-5BEB-48AB-8EF5-24E94D7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032-F9A4-4695-926D-25D90D53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EB13-BBBE-478D-ABDE-4CD01C4C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D21-9324-4843-A7E1-0926D30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37976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E367-CFF4-4B03-88E9-D6CE3550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47600"/>
            <a:ext cx="37926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37976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7028-0633-4C3A-A8C9-0B6B78C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1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94400"/>
            <a:ext cx="8745840" cy="181440"/>
            <a:chOff x="71280" y="194400"/>
            <a:chExt cx="8745840" cy="18144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088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0360" y="-4145040"/>
              <a:ext cx="6732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47600"/>
            <a:ext cx="777240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687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68772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B0D5-FAD7-4D3E-8E23-C16E91699F1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55600"/>
            <a:ext cx="202680" cy="7225920"/>
            <a:chOff x="177840" y="255600"/>
            <a:chExt cx="202680" cy="7225920"/>
          </a:xfrm>
        </p:grpSpPr>
        <p:sp>
          <p:nvSpPr>
            <p:cNvPr id="57" name=""/>
            <p:cNvSpPr/>
            <p:nvPr/>
          </p:nvSpPr>
          <p:spPr>
            <a:xfrm flipH="1">
              <a:off x="304200" y="285480"/>
              <a:ext cx="75960" cy="7196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55600"/>
              <a:ext cx="76320" cy="6950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44440"/>
            <a:ext cx="199080" cy="7120440"/>
            <a:chOff x="8792640" y="244440"/>
            <a:chExt cx="199080" cy="712044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44440"/>
              <a:ext cx="68400" cy="70365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421200"/>
              <a:ext cx="78120" cy="69433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7196040"/>
            <a:ext cx="8686800" cy="253080"/>
            <a:chOff x="412920" y="7196040"/>
            <a:chExt cx="8686800" cy="25308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4200" y="2894760"/>
              <a:ext cx="8424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0960" y="3155760"/>
              <a:ext cx="8460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94400"/>
            <a:ext cx="8745480" cy="181440"/>
            <a:chOff x="76320" y="194400"/>
            <a:chExt cx="8745480" cy="18144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5560" y="-3920040"/>
              <a:ext cx="6552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5400" y="-4145040"/>
              <a:ext cx="6732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0176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665460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66864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664164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1274-D90E-4CCF-9EE3-EE325D32E3D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783080"/>
            <a:ext cx="82292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52840" cy="501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1938240"/>
            <a:ext cx="9144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SECRETARIA NACIONAL DE DEFESA CIVIL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635280" y="4386240"/>
            <a:ext cx="17416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2• CICLO EVOLUTIVO (1969 – 197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75640" y="2202120"/>
            <a:ext cx="2160360" cy="3457440"/>
          </a:xfrm>
          <a:custGeom>
            <a:avLst/>
            <a:gdLst>
              <a:gd name="textAreaLeft" fmla="*/ 289440 w 2160360"/>
              <a:gd name="textAreaRight" fmla="*/ 1870920 w 216036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EFESA CIVI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3040" y="851040"/>
            <a:ext cx="3289320" cy="20001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C. N• 64.568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GRUPO DE TRABALHO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PARA ELABORAR PLANO DE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DEFESA PERMANENTE CONTRA 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808080"/>
                </a:solidFill>
                <a:latin typeface="Arial Black"/>
              </a:rPr>
              <a:t>22 MAI 1969</a:t>
            </a:r>
            <a:endParaRPr b="0" lang="en-US" sz="13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84360" y="5170320"/>
            <a:ext cx="3948120" cy="22734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RETO LEI N• 95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FUN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FUNDO ESPECIAL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3 OUT 196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1170000"/>
            <a:ext cx="3564000" cy="223992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• 67.347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Arial Black"/>
              </a:rPr>
              <a:t>GEACAP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GRUPO ESPECIAL PARA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ASSUNTOS DE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CALAMIDADES PÚBLICAS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05 OUT 197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2890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3• CICLO EVOLUTIVO (1979 – 1980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74920" y="1170000"/>
            <a:ext cx="6192720" cy="16812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DECRETO Nº 83.83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CRIA A SECRETARIA ESPECIAL 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13 AGO 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3649680"/>
            <a:ext cx="280836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THREE MILES ISLAND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79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51640" y="3649680"/>
            <a:ext cx="2808000" cy="1440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PRON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980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6"/>
            <a:endCxn id="163" idx="2"/>
          </p:cNvCxnSpPr>
          <p:nvPr/>
        </p:nvCxnSpPr>
        <p:spPr>
          <a:xfrm>
            <a:off x="3419640" y="3931920"/>
            <a:ext cx="223272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2190600"/>
            <a:ext cx="8136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1, inciso XVIII - calamidades pública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22, incisos III e XXVIII – requisições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civil defesa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36 e 137 - estado de defesa /         sítio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</a:rPr>
              <a:t>Art. 144 - segurança pública / c. bomb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6280" y="1330200"/>
            <a:ext cx="589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NSTITUIÇÃO DA REPÚBLICA - 1988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49280"/>
            <a:ext cx="9144000" cy="64116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4• CICLO EVOLUTIVO (1992 - ...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5251320"/>
            <a:ext cx="367164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C. Nº 895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SISTEM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6 AGO 1993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46560" y="5251320"/>
            <a:ext cx="3529080" cy="23194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POLÍTICA NACIONA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Arial Black"/>
              </a:rPr>
              <a:t>12 DEZ 1994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6"/>
            <a:endCxn id="170" idx="2"/>
          </p:cNvCxnSpPr>
          <p:nvPr/>
        </p:nvCxnSpPr>
        <p:spPr>
          <a:xfrm>
            <a:off x="4282560" y="5770080"/>
            <a:ext cx="864360" cy="1080"/>
          </a:xfrm>
          <a:prstGeom prst="straightConnector1">
            <a:avLst/>
          </a:prstGeom>
          <a:ln w="9360">
            <a:solidFill>
              <a:srgbClr val="f8f8f8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468360" y="1506600"/>
            <a:ext cx="8280360" cy="360036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CURSOS DE PÓS GRADUAÇÃO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FUNDAÇÃO GETÚLIO VARGAS – 1992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8080"/>
                </a:solidFill>
                <a:latin typeface="Arial Black"/>
              </a:rPr>
              <a:t>UNIVERSIDADE FEDERAL DA PARAÍBA – 1996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 Black"/>
              </a:rPr>
              <a:t>UNIVERSIDADE FEDERAL DE SANTA CATARINA - 2004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46200" y="450720"/>
            <a:ext cx="65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Century Gothic"/>
              </a:rPr>
              <a:t>LIMITAÇÕES DO SISTEMA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2854440"/>
            <a:ext cx="8161200" cy="27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ONTINUIDADE DAS AÇÕES DE DEFESA CIVIL; 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ÊNCIA DE TRABALHOS DE ENSINO, PESQUISA E EXTENSÃO;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EINAMENTO E CAPACITAÇÃO DE RECURSOS   HUMANOS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Clr>
                <a:srgbClr val="f8f8f8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TA DE VONTADE POLÍTICA E / OU INTERFERÊNCIAS POLÍTICAS EM QUESTÕES TÉCNICA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95120"/>
            <a:ext cx="9144000" cy="579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2193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NDEC – Conselho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SEDEC – Secretaria Nacional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24382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RDEC – Coordenadorias Region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30481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EDEC – Coordenadorias Estadu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65760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COMDEC – Coordenadorias Municipais de Defesa Civi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426708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 Setoriai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4876920"/>
            <a:ext cx="8382240" cy="459720"/>
          </a:xfrm>
          <a:prstGeom prst="rect">
            <a:avLst/>
          </a:prstGeom>
          <a:solidFill>
            <a:srgbClr val="ff99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Órgãos de Apoio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1981080"/>
            <a:ext cx="5410080" cy="1219320"/>
          </a:xfrm>
          <a:prstGeom prst="wedgeRectCallout">
            <a:avLst>
              <a:gd name="adj1" fmla="val -58833"/>
              <a:gd name="adj2" fmla="val -7044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Superior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Constituído por representantes dos Ministérios e da Presidência da República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743200"/>
            <a:ext cx="5029200" cy="1143000"/>
          </a:xfrm>
          <a:prstGeom prst="wedgeRectCallout">
            <a:avLst>
              <a:gd name="adj1" fmla="val -61236"/>
              <a:gd name="adj2" fmla="val -8375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 Central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responsável pela coordenação e articulação do sistema.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3200400"/>
            <a:ext cx="4800600" cy="838080"/>
          </a:xfrm>
          <a:prstGeom prst="wedgeRectCallout">
            <a:avLst>
              <a:gd name="adj1" fmla="val -64185"/>
              <a:gd name="adj2" fmla="val -79546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Region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Não estão ativado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3886200"/>
            <a:ext cx="6095880" cy="533520"/>
          </a:xfrm>
          <a:prstGeom prst="wedgeRectCallout">
            <a:avLst>
              <a:gd name="adj1" fmla="val -61092"/>
              <a:gd name="adj2" fmla="val -111310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Estaduais e do Distrit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4495680"/>
            <a:ext cx="6705360" cy="1219320"/>
          </a:xfrm>
          <a:prstGeom prst="wedgeRectCallout">
            <a:avLst>
              <a:gd name="adj1" fmla="val -61032"/>
              <a:gd name="adj2" fmla="val -74217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Comic Sans MS"/>
              </a:rPr>
              <a:t>Órgãos Municipais</a:t>
            </a: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 – governamentais e não- governamentais (Núcleos Comunitários de Defesa Civil – NUDEC)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5410080"/>
            <a:ext cx="7086600" cy="1219320"/>
          </a:xfrm>
          <a:prstGeom prst="wedgeRectCallout">
            <a:avLst>
              <a:gd name="adj1" fmla="val 5958"/>
              <a:gd name="adj2" fmla="val -97398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Órgãos e entidades da Administração Pública Federal, dos Estados,  do Distrito Federal e dos Municípios, envolvidos nas ações de defesa civil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5867280"/>
            <a:ext cx="8381880" cy="762120"/>
          </a:xfrm>
          <a:prstGeom prst="wedgeRectCallout">
            <a:avLst>
              <a:gd name="adj1" fmla="val -5416"/>
              <a:gd name="adj2" fmla="val -105624"/>
            </a:avLst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Comic Sans MS"/>
              </a:rPr>
              <a:t>Entidades públicas e privadas, organizações não-governamentais, clubes de serviço e associações diversas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1371600"/>
            <a:ext cx="8610480" cy="57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ctr">
              <a:lnSpc>
                <a:spcPct val="12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lanejar e promover a defesa permanente contra desastres naturais ou provocados pelo homem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atuar na iminência e em situações de desastres;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609480" indent="-609480" algn="just">
              <a:lnSpc>
                <a:spcPct val="135000"/>
              </a:lnSpc>
              <a:buClr>
                <a:srgbClr val="f8f8f8"/>
              </a:buClr>
              <a:buFont typeface="Arial"/>
              <a:buAutoNum type="romanU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prevenir ou minimizar danos, socorrer e assistir populações atingidas e recuperar áreas deterioradas por desastr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8088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6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Estrutu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O SINDEC é constituído por órgãos e entidades da Administração Pública Federal, dos Estados, do Distrito Federal e dos Municípios, por entidades privadas e pela comunidad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130000"/>
              </a:lnSpc>
              <a:spcBef>
                <a:spcPts val="700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Estruturado sob a forma de um sistema, que se articula nos três níveis de governo, em estreita interação com os órgãos setoriais, órgãos de apoio e com a comunidade.       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304920"/>
            <a:ext cx="9144000" cy="579960"/>
          </a:xfrm>
          <a:prstGeom prst="rect">
            <a:avLst/>
          </a:prstGeom>
          <a:solidFill>
            <a:srgbClr val="ff9933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"/>
              </a:rPr>
              <a:t>Sistema Nacional de Defesa Civil - SI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295280"/>
          <a:ext cx="9144000" cy="632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4" dur="1" fill="hold"/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vento Catarina – 28/03/2004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828800"/>
            <a:ext cx="3733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82880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1828800"/>
            <a:ext cx="1904760" cy="9381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24480" y="18288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7655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27432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6799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36576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324480" y="36576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594320"/>
            <a:ext cx="44197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4572000"/>
            <a:ext cx="190476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24480" y="4572000"/>
            <a:ext cx="2819520" cy="892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08720"/>
            <a:ext cx="4419720" cy="968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19720" y="5486400"/>
            <a:ext cx="1904760" cy="9907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5464080"/>
            <a:ext cx="2819520" cy="10130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7162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5920" y="198108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85560" y="2819520"/>
            <a:ext cx="32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essoas atingi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7480" y="3886200"/>
            <a:ext cx="26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brigados 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9400" y="472428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salojados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9520" y="5715000"/>
            <a:ext cx="204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vitima fat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06960" y="205740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3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2760" y="2895480"/>
            <a:ext cx="14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421.81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031000" y="38098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89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8720" y="472428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7.560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2800" y="2133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5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1520" y="57913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29400" y="3809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50  - Torre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1320" y="571500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 - mal súbit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1295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12952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6673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Órgãos envolvidos: SEDEC, INPE, INMET, Exército, Marinha, Aeronáutica, CEDEC, Bombeiros Militar et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743200"/>
            <a:ext cx="2819520" cy="91440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121932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ahoma"/>
              </a:rPr>
              <a:t>ESTRUTURA E FUNCIONAMENTO DO SISTEMA NACIONAL DE DEFESA CIVIL -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484360" y="2565360"/>
            <a:ext cx="4038840" cy="2014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68360" y="5249880"/>
            <a:ext cx="867564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PAULO ROBERTO FEREGUETI </a:t>
            </a:r>
            <a:r>
              <a:rPr b="0" i="1" lang="en-US" sz="2400" spc="-1" strike="noStrike">
                <a:solidFill>
                  <a:srgbClr val="ffff00"/>
                </a:solidFill>
                <a:latin typeface="Impact"/>
              </a:rPr>
              <a:t>GÓES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– Coronel Bombeiro Militar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Diretor do Departamento de Minimização de Desastr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Tahoma"/>
              </a:rPr>
              <a:t>Secretaria Nacional de Defesa Civil / MI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14640" y="695160"/>
            <a:ext cx="5429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9900"/>
                </a:solidFill>
                <a:latin typeface="Arial"/>
              </a:rPr>
              <a:t>Enchente – Jan a Mar/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54296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9 estad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tingidos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 o Distrito Feder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24 municípios atingi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65.773 desabrig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1.214 desalojad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19 mort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15.984 casa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12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046 pontes destruídas/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1239840"/>
          <a:ext cx="9144000" cy="638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9840"/>
                    <a:ext cx="9144000" cy="638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2004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76520"/>
            <a:ext cx="845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5200" indent="-353520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523880"/>
            <a:ext cx="91440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solução nº 8, de 12.02.2004 cria o Comitê Gestor das Ações Federais de Emergência – CG e Comitês Federais nos Estados – CGE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Emergencia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535.000 Kg de aliment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279 kit medicamentos p/cada 3.000 pesso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emergencial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Fase de Reconstruç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 de casas destruí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uperação de casas danific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71520" indent="-371520">
              <a:lnSpc>
                <a:spcPct val="8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econstrução/Recuperação de pontes e estrada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Nordeste – Ago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76520"/>
            <a:ext cx="769644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N = 29, PE = 44, PB = 5 e AL = 2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264.600 pessoas afet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5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4.0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.000 cobertor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4.0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40 caminhões–pipa para PE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457200"/>
            <a:ext cx="9144000" cy="12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8f8f8"/>
                </a:solidFill>
                <a:latin typeface="Arial"/>
              </a:rPr>
              <a:t>Mobilização do SINDEC - 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9900"/>
                </a:solidFill>
                <a:latin typeface="Arial"/>
              </a:rPr>
              <a:t>Enchente em Laranjal do Jari/A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2057400"/>
            <a:ext cx="61722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70% da área urbana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 </a:t>
            </a: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0% da área rural atingid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00 famílias desabrigad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4.000 desalojad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1.50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1874"/>
              </a:spcBef>
              <a:buClr>
                <a:srgbClr val="f8f8f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8f8f8"/>
                </a:solidFill>
                <a:latin typeface="Arial"/>
                <a:ea typeface="Times New Roman"/>
              </a:rPr>
              <a:t>2.500 colchonete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3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101520" indent="4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Enchente no Sudeste – Jan/2000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523880"/>
            <a:ext cx="8153280" cy="55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4 municípios atingidos: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SP = 40, RJ = 17 e MG = 47 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94.000 desabrigados  (MG = 81.533)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36 morta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105.020 cestas de alimento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Cobertores, colchonetes, lona plástica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Recursos da União:  SP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8,7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, RJ = R$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7,2 milhões</a:t>
            </a:r>
            <a:r>
              <a:rPr b="1" lang="pt-BR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 e MG =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$ 15,1 milhõ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5341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2095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UMÁRI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1143000"/>
            <a:ext cx="7696080" cy="42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Introdução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Históric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Sistema Nacional de Defesa Civil – SINDEC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Estrutura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57200" y="1447920"/>
            <a:ext cx="822960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01520" indent="468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Escassez de oxigênio devido a greve dos  caminhoneiro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440" y="53352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</a:rPr>
              <a:t>Mobilização do SINDEC - 1999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2895480"/>
            <a:ext cx="815364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te Martins solicitou intervenção para liberação dos caminhõe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DEC/MT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DEC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071360" y="68580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447920"/>
            <a:ext cx="822960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cre/inundação: transporte de 17 t medicamentos e 50 t de hipoclorido de sódio em 7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2,4 milhões para AC, MG, ES e RJ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spcBef>
                <a:spcPts val="3838"/>
              </a:spcBef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oram liberados recursos da ordem de R$ 300 mil e enviadas 4.000 cestas de alimentos para o R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3520" y="1676520"/>
            <a:ext cx="8153280" cy="43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ram transportados para os Estados de SP e MG, 20 t de donativos arrecadados pela CESIDEC, através de 2 aviões hércules/FAB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7680" y="762120"/>
            <a:ext cx="650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Mobilização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</a:rPr>
              <a:t>do SINDEC </a:t>
            </a:r>
            <a:r>
              <a:rPr b="1" lang="en-US" sz="3400" spc="-1" strike="noStrike">
                <a:solidFill>
                  <a:srgbClr val="00ffff"/>
                </a:solidFill>
                <a:latin typeface="Arial"/>
              </a:rPr>
              <a:t>- 1997</a:t>
            </a:r>
            <a:endParaRPr b="0" lang="en-US" sz="3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3499920"/>
            <a:ext cx="80024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www.defesacivil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 Roberto Feregueti Góe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Diretor Deptº de Minimização de Desastres – SEDEC/M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paulo.goes@integracao.gov.b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8f8f8"/>
                </a:solidFill>
                <a:latin typeface="Tahoma"/>
              </a:rPr>
              <a:t>(61) 414-5842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1814400" y="276228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Secretaria Nacional de Defesa Civi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14400" y="2286000"/>
            <a:ext cx="73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imes New Roman"/>
              </a:rPr>
              <a:t>Ministério da Integração Naciona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95640" y="333360"/>
            <a:ext cx="18306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0000" y="2495160"/>
            <a:ext cx="731016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00"/>
                </a:solidFill>
                <a:uFillTx/>
                <a:latin typeface="Arial Unicode MS"/>
                <a:ea typeface="Times New Roman"/>
              </a:rPr>
              <a:t>TÍTULO DA ORGANIZAÇÃO FEDERAL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rtigo 5° - Incumbe a cada Estado prover, expensas próprias, as necessidades de seu governo e administração: a União, porém, </a:t>
            </a:r>
            <a:r>
              <a:rPr b="1" lang="pt-BR" sz="3000" spc="-1" strike="noStrike">
                <a:solidFill>
                  <a:srgbClr val="ff9900"/>
                </a:solidFill>
                <a:latin typeface="Arial Unicode MS"/>
                <a:ea typeface="Times New Roman"/>
              </a:rPr>
              <a:t>prestará socorros ao Estado que, em caso de calamidade pública, os solicitar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27400" y="134928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CONSTITUIÇÃO DE 1891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225440" y="2466360"/>
            <a:ext cx="7871040" cy="47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  <a:ea typeface="Times New Roman"/>
              </a:rPr>
              <a:t>TÍTULO I- DA ORGANIZAÇÃO FEDER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CAPÍTULO I - DISPOSIÇÕES PRELIMINARE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5° -  Compete, privativamente a União: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XV —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Organizar defesa permanente contra os efeitos da seca nos Estados do Norte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;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Artigo 7º -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II — Prover as expensas próprias, as necessidades de sua administração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devendo,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porém, a União prestar socorros aos Estados que, em caso de calamidade pública, os solicitar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7400" y="128736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34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4920" y="26352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9900"/>
                </a:solidFill>
                <a:latin typeface="Arial Black"/>
              </a:rPr>
              <a:t>FUNDAMENTOS LEGAIS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2700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95240" y="2768760"/>
            <a:ext cx="78501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808080"/>
              </a:buClr>
              <a:buSzPct val="7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 baseline="16000">
                <a:solidFill>
                  <a:srgbClr val="0000ff"/>
                </a:solidFill>
                <a:latin typeface="Arial"/>
                <a:ea typeface="Times New Roman"/>
              </a:rPr>
              <a:t>DEFINE, COMO ENCARGOS NECESSÁRIOS À DEFESA DA PÁTRIA, OS SERVIÇOS DE DEFESA PASSIVA ANTI-AÉREA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320" y="790560"/>
            <a:ext cx="89913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DECRETO-LEI Nº 4098, DE 6 DE FEV 1942.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09800" y="274680"/>
            <a:ext cx="77724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 Black"/>
              </a:rPr>
              <a:t>FUNDAMENTOS LEGAIS</a:t>
            </a:r>
            <a:endParaRPr b="0" lang="en-US" sz="3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9080"/>
            <a:ext cx="9144000" cy="571320"/>
          </a:xfrm>
          <a:prstGeom prst="rect">
            <a:avLst/>
          </a:prstGeom>
          <a:noFill/>
          <a:ln w="507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Arial Black"/>
              </a:rPr>
              <a:t>1• CICLO EVOLUTIVO (1942 – 1946)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851040"/>
            <a:ext cx="2735280" cy="11188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098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FEV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3649680"/>
            <a:ext cx="2735280" cy="120168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624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SERVIÇO DE DEFES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PASSIVA ANTIAÉRE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26 AGO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128680"/>
            <a:ext cx="180000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CAMPANHAS DE ESCLARECIMENT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vistas, jornais, rádios e film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5091120"/>
            <a:ext cx="2519640" cy="118908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ROTEÇÃO DAS POPULÃÇÕ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eber instruçõe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Recolher-se a abrig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Atender aos alarme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Possuir os meios de defesa individu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6049800"/>
            <a:ext cx="2735280" cy="12002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4.80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NSINO DE DEFESA PASSIV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6 OUT 1942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397044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5.861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CRIA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30 SET 1943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6360" y="1170000"/>
            <a:ext cx="2735280" cy="12794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C. LEI N• 9.370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EXTINGUE O SERVIÇ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DE DEFESA CIVIL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Arial Black"/>
              </a:rPr>
              <a:t>17 JUN 1946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72360" y="5970600"/>
            <a:ext cx="2519280" cy="100656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Organização Sistêmic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União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Estados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UNICÍPIOS 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Serviços Privado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88000" y="2768760"/>
            <a:ext cx="2519640" cy="64152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8f8f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f8f8f8"/>
                </a:solidFill>
                <a:latin typeface="Tahoma"/>
              </a:rPr>
              <a:t>MEDIDAS ESTRUTURAIS E NÃO-ESTRUTURAIS DE PROTEÇÃ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828160" y="2201040"/>
            <a:ext cx="3919680" cy="3457440"/>
          </a:xfrm>
          <a:custGeom>
            <a:avLst/>
            <a:gdLst>
              <a:gd name="textAreaLeft" fmla="*/ 524880 w 3919680"/>
              <a:gd name="textAreaRight" fmla="*/ 3394800 w 3919680"/>
              <a:gd name="textAreaTop" fmla="*/ 653400 h 3457440"/>
              <a:gd name="textAreaBottom" fmla="*/ 239472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65" stAng="-5400000" swAng="-5400000"/>
                <a:lnTo>
                  <a:pt x="0" y="10877"/>
                </a:lnTo>
                <a:arcTo wR="21600" hR="8165" stAng="10800000" swAng="-2814880"/>
                <a:lnTo>
                  <a:pt x="14400" y="21133"/>
                </a:lnTo>
                <a:lnTo>
                  <a:pt x="21600" y="17686"/>
                </a:lnTo>
                <a:lnTo>
                  <a:pt x="14400" y="13305"/>
                </a:lnTo>
                <a:lnTo>
                  <a:pt x="14400" y="15863"/>
                </a:lnTo>
                <a:arcTo wR="21600" hR="8165" stAng="7985120" swAng="2596321"/>
                <a:lnTo>
                  <a:pt x="300" y="9521"/>
                </a:lnTo>
                <a:arcTo wR="21600" hR="8165" stAng="-10581442" swAng="5181442"/>
                <a:close/>
              </a:path>
              <a:path fill="darkenLess" w="21600" h="21600">
                <a:moveTo>
                  <a:pt x="21600" y="0"/>
                </a:moveTo>
                <a:arcTo wR="21600" hR="8165" stAng="-5400000" swAng="-5400000"/>
                <a:lnTo>
                  <a:pt x="0" y="8165"/>
                </a:lnTo>
                <a:arcTo wR="21600" hR="8165" stAng="10800000" swAng="-218558"/>
                <a:lnTo>
                  <a:pt x="300" y="9521"/>
                </a:lnTo>
                <a:arcTo wR="21600" hR="8165" stAng="-10581442" swAng="5181442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77760"/>
            <a:ext cx="4516560" cy="76201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1160" y="0"/>
            <a:ext cx="4711680" cy="760716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4370400"/>
            <a:ext cx="9144000" cy="2319480"/>
          </a:xfrm>
          <a:prstGeom prst="rect">
            <a:avLst/>
          </a:prstGeom>
          <a:solidFill>
            <a:srgbClr val="66ffcc">
              <a:alpha val="25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MPROVISO DAS AÇÕES DE RESPOSTA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GRAVES CONSEQÜÊNCIAS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BSOLUTA FALTA DE PLANEJAMENTO;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369720"/>
            <a:ext cx="612144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JANEIRO DE 1966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6"/>
            </a:gs>
            <a:gs pos="50000">
              <a:srgbClr val="000099"/>
            </a:gs>
            <a:gs pos="100000">
              <a:srgbClr val="0000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24000" y="2681280"/>
            <a:ext cx="866772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TITULO I - DA ORGANIZAÇÃO NACIONAL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CAPITULO XII - DA COMPETÊNCIA DA UNIÃO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Artigo 8º -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XII — Organizar a defesa permanente contra as calamidades públicas, especialmente, as secas e as inundações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7400" y="1620720"/>
            <a:ext cx="53164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 Black"/>
              </a:rPr>
              <a:t>CONSTITUIÇÃO DE 1967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94040" y="6345360"/>
            <a:ext cx="5316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16000">
                <a:solidFill>
                  <a:srgbClr val="ffff00"/>
                </a:solidFill>
                <a:latin typeface="Arial"/>
                <a:ea typeface="Times New Roman"/>
              </a:rPr>
              <a:t>(INCISO XVIII, Artigo 21, CF1988)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09800" y="274680"/>
            <a:ext cx="77724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FUNDAMENTOS LEGAIS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9:43:06Z</dcterms:created>
  <dc:creator>Departamento de Defesa Civil</dc:creator>
  <dc:description/>
  <dc:language>en-US</dc:language>
  <cp:lastModifiedBy>Computador</cp:lastModifiedBy>
  <cp:lastPrinted>1999-09-21T18:27:05Z</cp:lastPrinted>
  <dcterms:modified xsi:type="dcterms:W3CDTF">2004-11-29T16:03:01Z</dcterms:modified>
  <cp:revision>199</cp:revision>
  <dc:subject/>
  <dc:title>IMPLANTAÇÃO E OPERACIONALIZAÇÃO DE COMDEC</dc:title>
</cp:coreProperties>
</file>